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2.gif" ContentType="image/gif"/>
  <Override PartName="/ppt/media/image1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BA5-9F48-40CA-B1DC-3538C053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AB6-1A69-4BB7-9138-B747C4E3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D4A-C8B9-4D24-92D2-92FC38B5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D94D-610D-4222-A6D8-D46798B8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2B5E-68E5-4184-9F6D-165AF3CA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FB83-7B1B-42A0-9CD4-749B581B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3764-E34E-42ED-B874-CED63CC0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AB9A-B758-4C3C-A29A-7FB224FA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6D20-2F14-49BB-9E09-F26D34AE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8992-9CFA-44D5-B3F6-32246061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E571-1CDF-4C66-9A36-E4868A7A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D757-922B-428E-86BE-FE503008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4ECA-D979-403A-911E-0C626642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603A-22AF-4726-BFBA-D44459F3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8851-153C-451B-9814-96752187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3211-33C6-4E49-839D-8650DE43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A479-46DE-45A8-B230-254F1B9E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4AB-1204-4A25-8A2C-AC65F3B3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FB6-6CD5-4846-B485-4008B85B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22F-B1FD-433D-8C79-66084D21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9F5-C7F0-4444-B3B8-9D85977B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ED2-35B5-4C75-AA27-5EC4303D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C34-BFB2-49EB-8326-88BE4091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FF71-7DC7-4357-8A83-A1E5C0C4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F635-F61A-4304-97E7-63073D6CCD4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5DE0-2272-4C07-B06B-EE4C6DF9608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Shared%20Responsibilities.notebook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Chapter 7: Confeder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Was Confederation a democratic process by today’s stand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32360" y="0"/>
            <a:ext cx="3163680" cy="2596680"/>
            <a:chOff x="4932360" y="0"/>
            <a:chExt cx="3163680" cy="2596680"/>
          </a:xfrm>
        </p:grpSpPr>
        <p:sp>
          <p:nvSpPr>
            <p:cNvPr id="126" name="Puzzle3"/>
            <p:cNvSpPr/>
            <p:nvPr/>
          </p:nvSpPr>
          <p:spPr>
            <a:xfrm>
              <a:off x="6473160" y="0"/>
              <a:ext cx="1243440" cy="13802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Puzzle2"/>
            <p:cNvSpPr/>
            <p:nvPr/>
          </p:nvSpPr>
          <p:spPr>
            <a:xfrm>
              <a:off x="6111360" y="1005120"/>
              <a:ext cx="1984680" cy="12567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Puzzle4"/>
            <p:cNvSpPr/>
            <p:nvPr/>
          </p:nvSpPr>
          <p:spPr>
            <a:xfrm>
              <a:off x="5343120" y="989640"/>
              <a:ext cx="1196640" cy="16070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Puzzle1"/>
            <p:cNvSpPr/>
            <p:nvPr/>
          </p:nvSpPr>
          <p:spPr>
            <a:xfrm>
              <a:off x="4932360" y="417240"/>
              <a:ext cx="2009520" cy="9579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The Quebec Conferen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t the 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Quebec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conference on October 10th, 1864, all colonies including Newfoundland, discussed how the union would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ova Scotia, New Brunswick and the Province of Canada formed a un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t the end a list called the Seventy-Two Resolutions was crea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resolution: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a formal decision made by a grou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The Seventy-Two Resolu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elpful Te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Fed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One central government in charge of the whole count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Representation by popul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The provinces with the highest populations would have the most members in govern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5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Why Confederation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ere were many reasons why colonies wanted to join confederation but there were 4 common reas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hreat from the United St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99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9933"/>
                </a:solidFill>
                <a:latin typeface="Times New Roman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imes New Roman"/>
              </a:rPr>
              <a:t>The Need for More Rail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imes New Roman"/>
              </a:rPr>
              <a:t>The Demand for More 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1. The Threat from the United Stat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eople in favour of Confederation said it would be easier to defend the colonies against takeover by the US if they were uni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9933"/>
                </a:solidFill>
                <a:latin typeface="Times New Roman"/>
              </a:rPr>
              <a:t>2. Tra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e US wanted to end the 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reciprocity treaty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and the colonies realized they couldn’t depend on trade with the US fore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Reciprocity trea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The colonies and US didn’t charge tax on each others products – it was free trad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CA" sz="4000" spc="-1" strike="noStrike">
                <a:solidFill>
                  <a:srgbClr val="ff0000"/>
                </a:solidFill>
                <a:latin typeface="Times New Roman"/>
              </a:rPr>
              <a:t>3. The Need for More Railways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If the colonies all joined Confederation they could share the cost of building an Intercolonial Railway to link all of the railways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219640" y="3716280"/>
            <a:ext cx="2455920" cy="237672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4. The Demand for More Lan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e Hudson’s Bay Company still owned a lot of land in the wes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Many people believed that if the colonies were united they could afford to buy the land to have for the increasing number of settlers coming ov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435640" y="4653000"/>
            <a:ext cx="19177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Debating Confeder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oday, an issue as important as confederation would be decided using a referend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referendum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: the people vote on an issue direc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Back then, some governments held elections on whether to join confederation, some governments decided to join without asking the peo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Debating Confeder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e Province of Can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ntoine-Aimé Dorion believed the people should decide on joining Confede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Instead the </a:t>
            </a: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government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decided to join Confede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Was this a democratic proce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435640" y="5148360"/>
            <a:ext cx="131760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020000" y="5157720"/>
            <a:ext cx="1257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Debating Confeder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New Brunsw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Leonard Tilley was in favour of Confed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.J. Smith  was against Confed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In an election, Tilley’s government lost and the anti-Confederation government was voted 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8734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On a piece of loose-leaf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In point form, answer the following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Castellar"/>
              </a:rPr>
              <a:t>What do you know about Confeder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Debating Confeder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rince Edward Is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The people were against Confederation on PEI and the government listened to them. They did not join Confede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Was this a democratic proces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35640" y="4076640"/>
            <a:ext cx="1820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Debating Confeder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ova Sco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The premier, Charles Tupper, was for Confe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Joseph Howe, who was not a member of government at that point but was vocal in his newspaper, was against Confe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More people were against Confederation than fo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Charles Tupper had Confederation approved before he had to call an el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Was this a democratic proces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867280" y="5013360"/>
            <a:ext cx="141768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Debating Confeder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Newfound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lthough the government leaders were in favour of Confederation, the people of Newfoundland were 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ewfoundland did not join Confede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Was this a democratic proces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948360" y="4724280"/>
            <a:ext cx="18208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4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4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bcbcb"/>
                </a:solidFill>
                <a:latin typeface="Times New Roman"/>
              </a:rPr>
              <a:t>What Changed New Brunswick’s Mind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The reciprocity agreement with the US ended so NB relied on the other colonies for tr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 group of Fenians almost attacked N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ffff"/>
                </a:solidFill>
                <a:latin typeface="Times New Roman"/>
              </a:rPr>
              <a:t>Fenians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 are Irish-Americans fighting to free Ireland from British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ew Brunswicker’s regretted voting in a anti-confederate government so another election was held and a pro-confederate government was voted 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Was Confederation Democratic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1981080"/>
          <a:ext cx="7772400" cy="46418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mocratic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 (</a:t>
                      </a: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                      No (</a:t>
                      </a: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e of Can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Brunsw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nce Edward Isl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va Scot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foundl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Was Confederation Democratic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5667480"/>
            <a:ext cx="2590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5667480"/>
            <a:ext cx="25905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5667480"/>
            <a:ext cx="2590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ewfound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5091120"/>
            <a:ext cx="259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5091120"/>
            <a:ext cx="2590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5091120"/>
            <a:ext cx="259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ova Sco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4270320"/>
            <a:ext cx="2590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4270320"/>
            <a:ext cx="2590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270320"/>
            <a:ext cx="2590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Prince Edward Is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697200"/>
            <a:ext cx="2590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697200"/>
            <a:ext cx="25905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3697200"/>
            <a:ext cx="2590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ew Brunsw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30114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3011400"/>
            <a:ext cx="2590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0114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Province of Can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1981080"/>
            <a:ext cx="51814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Democratic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Yes (</a:t>
            </a:r>
            <a:r>
              <a:rPr b="0" lang="en-C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)                      No (</a:t>
            </a:r>
            <a:r>
              <a:rPr b="0" lang="en-C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981080"/>
            <a:ext cx="25909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01140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369720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703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5091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6674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6240600"/>
            <a:ext cx="77724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981080"/>
            <a:ext cx="0" cy="425952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1981080"/>
            <a:ext cx="0" cy="425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458200" y="1981080"/>
            <a:ext cx="0" cy="425952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3011400"/>
            <a:ext cx="0" cy="3229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40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Confederation Achiev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July 1st, 186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Queen of England signed the document that created the Dominion of Ca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The Dominion of Canada was made up o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Quebec (the old Canada Ea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Ontario (the old Canada We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New Brunswi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Nova Sco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The first Prime Minister was John A. MacDona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812000" y="4653000"/>
            <a:ext cx="96228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5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80" dur="2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bcbcb"/>
                </a:solidFill>
                <a:latin typeface="Times New Roman"/>
              </a:rPr>
              <a:t>The British North America Act, 1867 (BNA Act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1866-186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Delegates went to England to figure out a system of government for Confede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This system was based on the Seventy-Two Resolutions from the Quebec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The name given to their work was the British North America A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10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Aboriginals &amp; the BNA A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e act said that the federal government would be in charge of any decisions regarding Indians and their la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They did not have the rights of citizens in this new country, but they had to be governed by their la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Expanding Confeder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New Brunswick </a:t>
            </a: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186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Nova Scotia</a:t>
            </a: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186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Ontario</a:t>
            </a: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186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Quebec</a:t>
            </a: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186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Manitoba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18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Northwest Territories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18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</a:rPr>
              <a:t>British Columbia</a:t>
            </a:r>
            <a:r>
              <a:rPr b="0" lang="en-CA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0000"/>
                </a:solidFill>
                <a:latin typeface="Times New Roman"/>
              </a:rPr>
              <a:t>187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ffff"/>
                </a:solidFill>
                <a:latin typeface="Times New Roman"/>
              </a:rPr>
              <a:t>Prince Edward Island</a:t>
            </a:r>
            <a:r>
              <a:rPr b="0" lang="en-CA" sz="2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ffff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6600"/>
                </a:solidFill>
                <a:latin typeface="Times New Roman"/>
              </a:rPr>
              <a:t>Yukon Territory</a:t>
            </a:r>
            <a:r>
              <a:rPr b="0" lang="en-CA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6600"/>
                </a:solidFill>
                <a:latin typeface="Times New Roman"/>
              </a:rPr>
              <a:t>18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ff00"/>
                </a:solidFill>
                <a:latin typeface="Times New Roman"/>
              </a:rPr>
              <a:t>Alberta</a:t>
            </a:r>
            <a:r>
              <a:rPr b="0" lang="en-CA" sz="20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ff00"/>
                </a:solidFill>
                <a:latin typeface="Times New Roman"/>
              </a:rPr>
              <a:t>19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ff00"/>
                </a:solidFill>
                <a:latin typeface="Times New Roman"/>
              </a:rPr>
              <a:t>Saskatchewan</a:t>
            </a:r>
            <a:r>
              <a:rPr b="0" lang="en-CA" sz="20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ff00"/>
                </a:solidFill>
                <a:latin typeface="Times New Roman"/>
              </a:rPr>
              <a:t>19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ff"/>
                </a:solidFill>
                <a:latin typeface="Times New Roman"/>
              </a:rPr>
              <a:t>Newfoundland</a:t>
            </a:r>
            <a:r>
              <a:rPr b="0" lang="en-CA" sz="2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00ff"/>
                </a:solidFill>
                <a:latin typeface="Times New Roman"/>
              </a:rPr>
              <a:t>194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Times New Roman"/>
              </a:rPr>
              <a:t>Nunavut</a:t>
            </a:r>
            <a:r>
              <a:rPr b="0" lang="en-CA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00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56360" y="4005360"/>
            <a:ext cx="138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Cooper Black"/>
              </a:rPr>
              <a:t>EXTRA! EXTRA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TE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imes New Roman"/>
              </a:rPr>
              <a:t>We will be having a </a:t>
            </a:r>
            <a:r>
              <a:rPr b="0" i="1" lang="en-CA" sz="1800" spc="-1" strike="noStrike">
                <a:solidFill>
                  <a:srgbClr val="ffffff"/>
                </a:solidFill>
                <a:latin typeface="Times New Roman"/>
              </a:rPr>
              <a:t>test</a:t>
            </a:r>
            <a:r>
              <a:rPr b="0" lang="en-CA" sz="1800" spc="-1" strike="noStrike">
                <a:solidFill>
                  <a:srgbClr val="ffffff"/>
                </a:solidFill>
                <a:latin typeface="Times New Roman"/>
              </a:rPr>
              <a:t> when we get to page 133 and when we get to page138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imes New Roman"/>
              </a:rPr>
              <a:t>It is YOUR responsibility to be reviewing your notes EVERY nigh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imes New Roman"/>
              </a:rPr>
              <a:t>Remember – if you are an </a:t>
            </a:r>
            <a:r>
              <a:rPr b="1" i="1" lang="en-CA" sz="1800" spc="-1" strike="noStrike">
                <a:solidFill>
                  <a:srgbClr val="ffffff"/>
                </a:solidFill>
                <a:latin typeface="Times New Roman"/>
              </a:rPr>
              <a:t>auditory</a:t>
            </a:r>
            <a:r>
              <a:rPr b="0" lang="en-CA" sz="1800" spc="-1" strike="noStrike">
                <a:solidFill>
                  <a:srgbClr val="ffffff"/>
                </a:solidFill>
                <a:latin typeface="Times New Roman"/>
              </a:rPr>
              <a:t> learner it is a good idea to read them out loud or to someone e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imes New Roman"/>
              </a:rPr>
              <a:t>It is always a good idea to </a:t>
            </a:r>
            <a:r>
              <a:rPr b="0" i="1" lang="en-CA" sz="1800" spc="-1" strike="noStrike">
                <a:solidFill>
                  <a:srgbClr val="ffffff"/>
                </a:solidFill>
                <a:latin typeface="Times New Roman"/>
              </a:rPr>
              <a:t>teach</a:t>
            </a:r>
            <a:r>
              <a:rPr b="0" lang="en-CA" sz="1800" spc="-1" strike="noStrike">
                <a:solidFill>
                  <a:srgbClr val="ffffff"/>
                </a:solidFill>
                <a:latin typeface="Times New Roman"/>
              </a:rPr>
              <a:t> the subject matter to someone else to help yourself lear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QUIZZ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imes New Roman"/>
              </a:rPr>
              <a:t>We will be having mini ‘pop’ quizzes periodicall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imes New Roman"/>
              </a:rPr>
              <a:t>To do well on these quizzes, you mus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Times New Roman"/>
              </a:rPr>
              <a:t>Listen in 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Times New Roman"/>
              </a:rPr>
              <a:t>Review your notes of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Times New Roman"/>
              </a:rPr>
              <a:t>Complete all homework assign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84720" y="4653000"/>
            <a:ext cx="182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bcbcb"/>
                </a:solidFill>
                <a:latin typeface="Times New Roman"/>
              </a:rPr>
              <a:t>Organization of the Federal Governmen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4360" y="1941480"/>
            <a:ext cx="7703640" cy="4102920"/>
            <a:chOff x="684360" y="1941480"/>
            <a:chExt cx="7703640" cy="4102920"/>
          </a:xfrm>
        </p:grpSpPr>
        <p:cxnSp>
          <p:nvCxnSpPr>
            <p:cNvPr id="227" name="_s216093"/>
            <p:cNvCxnSpPr>
              <a:stCxn id="228" idx="2"/>
              <a:endCxn id="229" idx="3"/>
            </p:cNvCxnSpPr>
            <p:nvPr/>
          </p:nvCxnSpPr>
          <p:spPr>
            <a:xfrm rot="10800000">
              <a:off x="6190200" y="4924800"/>
              <a:ext cx="349560" cy="78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216091"/>
            <p:cNvCxnSpPr>
              <a:stCxn id="231" idx="2"/>
              <a:endCxn id="232" idx="3"/>
            </p:cNvCxnSpPr>
            <p:nvPr/>
          </p:nvCxnSpPr>
          <p:spPr>
            <a:xfrm rot="10800000">
              <a:off x="3726000" y="4924800"/>
              <a:ext cx="349560" cy="78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216089"/>
            <p:cNvCxnSpPr>
              <a:stCxn id="229" idx="0"/>
              <a:endCxn id="234" idx="3"/>
            </p:cNvCxnSpPr>
            <p:nvPr/>
          </p:nvCxnSpPr>
          <p:spPr>
            <a:xfrm flipV="1" rot="16200000">
              <a:off x="4888440" y="2795760"/>
              <a:ext cx="373680" cy="2394360"/>
            </a:xfrm>
            <a:prstGeom prst="bentConnector3">
              <a:avLst>
                <a:gd name="adj1" fmla="val 305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216087"/>
            <p:cNvCxnSpPr>
              <a:stCxn id="232" idx="0"/>
              <a:endCxn id="234" idx="3"/>
            </p:cNvCxnSpPr>
            <p:nvPr/>
          </p:nvCxnSpPr>
          <p:spPr>
            <a:xfrm flipH="1" flipV="1" rot="5400000">
              <a:off x="3656160" y="3957480"/>
              <a:ext cx="373680" cy="71280"/>
            </a:xfrm>
            <a:prstGeom prst="bentConnector3">
              <a:avLst>
                <a:gd name="adj1" fmla="val 305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6" name="_s216083"/>
            <p:cNvCxnSpPr>
              <a:stCxn id="237" idx="0"/>
              <a:endCxn id="234" idx="3"/>
            </p:cNvCxnSpPr>
            <p:nvPr/>
          </p:nvCxnSpPr>
          <p:spPr>
            <a:xfrm flipH="1" flipV="1" rot="5400000">
              <a:off x="2577240" y="2878200"/>
              <a:ext cx="373680" cy="2229840"/>
            </a:xfrm>
            <a:prstGeom prst="bentConnector3">
              <a:avLst>
                <a:gd name="adj1" fmla="val 305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216077"/>
            <p:cNvCxnSpPr>
              <a:stCxn id="234" idx="0"/>
              <a:endCxn id="239" idx="3"/>
            </p:cNvCxnSpPr>
            <p:nvPr/>
          </p:nvCxnSpPr>
          <p:spPr>
            <a:xfrm flipV="1" rot="16200000">
              <a:off x="3732120" y="2832840"/>
              <a:ext cx="373680" cy="81360"/>
            </a:xfrm>
            <a:prstGeom prst="bentConnector3">
              <a:avLst>
                <a:gd name="adj1" fmla="val 305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9" name="_s216073"/>
            <p:cNvSpPr/>
            <p:nvPr/>
          </p:nvSpPr>
          <p:spPr>
            <a:xfrm>
              <a:off x="2994480" y="1941480"/>
              <a:ext cx="1849680" cy="745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Arial"/>
                </a:rPr>
                <a:t>The Cr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Arial"/>
                </a:rPr>
                <a:t>(Monarch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_s216074"/>
            <p:cNvSpPr/>
            <p:nvPr/>
          </p:nvSpPr>
          <p:spPr>
            <a:xfrm>
              <a:off x="2994480" y="3060360"/>
              <a:ext cx="1849680" cy="745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33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Arial"/>
                </a:rPr>
                <a:t>Governor Gener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_s216082"/>
            <p:cNvSpPr/>
            <p:nvPr/>
          </p:nvSpPr>
          <p:spPr>
            <a:xfrm>
              <a:off x="684360" y="4179600"/>
              <a:ext cx="1849680" cy="745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0099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Arial"/>
                </a:rPr>
                <a:t>Sena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_s216086"/>
            <p:cNvSpPr/>
            <p:nvPr/>
          </p:nvSpPr>
          <p:spPr>
            <a:xfrm>
              <a:off x="2842560" y="4179600"/>
              <a:ext cx="1849680" cy="745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0099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Arial"/>
                </a:rPr>
                <a:t>House of Comm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_s216088"/>
            <p:cNvSpPr/>
            <p:nvPr/>
          </p:nvSpPr>
          <p:spPr>
            <a:xfrm>
              <a:off x="5306760" y="4179600"/>
              <a:ext cx="1849680" cy="745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0099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Arial"/>
                </a:rPr>
                <a:t>Prime Min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_s216090"/>
            <p:cNvSpPr/>
            <p:nvPr/>
          </p:nvSpPr>
          <p:spPr>
            <a:xfrm>
              <a:off x="4075920" y="5298480"/>
              <a:ext cx="1847520" cy="745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0099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Arial"/>
                </a:rPr>
                <a:t>Vot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_s216092"/>
            <p:cNvSpPr/>
            <p:nvPr/>
          </p:nvSpPr>
          <p:spPr>
            <a:xfrm>
              <a:off x="6540120" y="5298480"/>
              <a:ext cx="1847880" cy="745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0099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Arial"/>
                </a:rPr>
                <a:t>Cabi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Taking Part in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ere are three levels of govern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Federal (the whole count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Provincial (the provi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Municipal (cities &amp; tow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Canada Toda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63480" y="1941480"/>
            <a:ext cx="7724160" cy="4120560"/>
            <a:chOff x="663480" y="1941480"/>
            <a:chExt cx="7724160" cy="4120560"/>
          </a:xfrm>
        </p:grpSpPr>
        <p:cxnSp>
          <p:nvCxnSpPr>
            <p:cNvPr id="244" name="_s220183"/>
            <p:cNvCxnSpPr>
              <a:stCxn id="245" idx="1"/>
              <a:endCxn id="246" idx="2"/>
            </p:cNvCxnSpPr>
            <p:nvPr/>
          </p:nvCxnSpPr>
          <p:spPr>
            <a:xfrm rot="10800000">
              <a:off x="5206320" y="4296600"/>
              <a:ext cx="455040" cy="591840"/>
            </a:xfrm>
            <a:prstGeom prst="bentConnector2">
              <a:avLst/>
            </a:prstGeom>
            <a:ln w="28440">
              <a:solidFill>
                <a:srgbClr val="003d3d"/>
              </a:solidFill>
              <a:miter/>
            </a:ln>
          </p:spPr>
        </p:cxnSp>
        <p:cxnSp>
          <p:nvCxnSpPr>
            <p:cNvPr id="247" name="_s220181"/>
            <p:cNvCxnSpPr>
              <a:stCxn id="246" idx="0"/>
              <a:endCxn id="248" idx="2"/>
            </p:cNvCxnSpPr>
            <p:nvPr/>
          </p:nvCxnSpPr>
          <p:spPr>
            <a:xfrm flipV="1">
              <a:off x="5206680" y="3427920"/>
              <a:ext cx="3240" cy="280800"/>
            </a:xfrm>
            <a:prstGeom prst="bentConnector2">
              <a:avLst/>
            </a:prstGeom>
            <a:ln w="28440">
              <a:solidFill>
                <a:srgbClr val="003d3d"/>
              </a:solidFill>
              <a:miter/>
            </a:ln>
          </p:spPr>
        </p:cxnSp>
        <p:cxnSp>
          <p:nvCxnSpPr>
            <p:cNvPr id="249" name="_s220179"/>
            <p:cNvCxnSpPr>
              <a:stCxn id="250" idx="1"/>
              <a:endCxn id="251" idx="2"/>
            </p:cNvCxnSpPr>
            <p:nvPr/>
          </p:nvCxnSpPr>
          <p:spPr>
            <a:xfrm rot="10800000">
              <a:off x="2025720" y="5180040"/>
              <a:ext cx="435600" cy="587520"/>
            </a:xfrm>
            <a:prstGeom prst="bentConnector2">
              <a:avLst/>
            </a:prstGeom>
            <a:ln w="28440">
              <a:solidFill>
                <a:srgbClr val="003d3d"/>
              </a:solidFill>
              <a:miter/>
            </a:ln>
          </p:spPr>
        </p:cxnSp>
        <p:cxnSp>
          <p:nvCxnSpPr>
            <p:cNvPr id="252" name="_s220177"/>
            <p:cNvCxnSpPr>
              <a:stCxn id="251" idx="0"/>
              <a:endCxn id="253" idx="2"/>
            </p:cNvCxnSpPr>
            <p:nvPr/>
          </p:nvCxnSpPr>
          <p:spPr>
            <a:xfrm flipV="1">
              <a:off x="2026080" y="4296960"/>
              <a:ext cx="3240" cy="295200"/>
            </a:xfrm>
            <a:prstGeom prst="bentConnector2">
              <a:avLst/>
            </a:prstGeom>
            <a:ln w="28440">
              <a:solidFill>
                <a:srgbClr val="003d3d"/>
              </a:solidFill>
              <a:miter/>
            </a:ln>
          </p:spPr>
        </p:cxnSp>
        <p:cxnSp>
          <p:nvCxnSpPr>
            <p:cNvPr id="254" name="_s220175"/>
            <p:cNvCxnSpPr>
              <a:stCxn id="253" idx="0"/>
              <a:endCxn id="255" idx="2"/>
            </p:cNvCxnSpPr>
            <p:nvPr/>
          </p:nvCxnSpPr>
          <p:spPr>
            <a:xfrm flipV="1">
              <a:off x="2026080" y="3427920"/>
              <a:ext cx="3240" cy="280800"/>
            </a:xfrm>
            <a:prstGeom prst="bentConnector2">
              <a:avLst/>
            </a:prstGeom>
            <a:ln w="28440">
              <a:solidFill>
                <a:srgbClr val="003d3d"/>
              </a:solidFill>
              <a:miter/>
            </a:ln>
          </p:spPr>
        </p:cxnSp>
        <p:cxnSp>
          <p:nvCxnSpPr>
            <p:cNvPr id="256" name="_s220172"/>
            <p:cNvCxnSpPr>
              <a:stCxn id="248" idx="0"/>
              <a:endCxn id="257" idx="2"/>
            </p:cNvCxnSpPr>
            <p:nvPr/>
          </p:nvCxnSpPr>
          <p:spPr>
            <a:xfrm flipV="1" rot="16200000">
              <a:off x="4280760" y="1883520"/>
              <a:ext cx="262080" cy="1591200"/>
            </a:xfrm>
            <a:prstGeom prst="bentConnector3">
              <a:avLst>
                <a:gd name="adj1" fmla="val 43603"/>
              </a:avLst>
            </a:prstGeom>
            <a:ln w="28440">
              <a:solidFill>
                <a:srgbClr val="003d3d"/>
              </a:solidFill>
              <a:miter/>
            </a:ln>
          </p:spPr>
        </p:cxnSp>
        <p:cxnSp>
          <p:nvCxnSpPr>
            <p:cNvPr id="258" name="_s220171"/>
            <p:cNvCxnSpPr>
              <a:stCxn id="255" idx="0"/>
              <a:endCxn id="257" idx="2"/>
            </p:cNvCxnSpPr>
            <p:nvPr/>
          </p:nvCxnSpPr>
          <p:spPr>
            <a:xfrm flipH="1" flipV="1" rot="5400000">
              <a:off x="2690280" y="1884240"/>
              <a:ext cx="262080" cy="1590480"/>
            </a:xfrm>
            <a:prstGeom prst="bentConnector3">
              <a:avLst>
                <a:gd name="adj1" fmla="val 43603"/>
              </a:avLst>
            </a:prstGeom>
            <a:ln w="28440">
              <a:solidFill>
                <a:srgbClr val="003d3d"/>
              </a:solidFill>
              <a:miter/>
            </a:ln>
          </p:spPr>
        </p:cxnSp>
        <p:sp>
          <p:nvSpPr>
            <p:cNvPr id="257" name="_s220167"/>
            <p:cNvSpPr/>
            <p:nvPr/>
          </p:nvSpPr>
          <p:spPr>
            <a:xfrm>
              <a:off x="2253240" y="1941480"/>
              <a:ext cx="2726280" cy="588960"/>
            </a:xfrm>
            <a:prstGeom prst="roundRect">
              <a:avLst>
                <a:gd name="adj" fmla="val 16667"/>
              </a:avLst>
            </a:prstGeom>
            <a:solidFill>
              <a:srgbClr val="66c2c2"/>
            </a:solidFill>
            <a:ln w="38160">
              <a:solidFill>
                <a:srgbClr val="003d3d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ffffff"/>
                  </a:solidFill>
                  <a:latin typeface="Arial"/>
                </a:rPr>
                <a:t>The Crow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_s220168"/>
            <p:cNvSpPr/>
            <p:nvPr/>
          </p:nvSpPr>
          <p:spPr>
            <a:xfrm>
              <a:off x="663480" y="2824920"/>
              <a:ext cx="2726280" cy="588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28440">
              <a:solidFill>
                <a:srgbClr val="003d3d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ffffff"/>
                  </a:solidFill>
                  <a:latin typeface="Arial"/>
                </a:rPr>
                <a:t>The Governor 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_s220169"/>
            <p:cNvSpPr/>
            <p:nvPr/>
          </p:nvSpPr>
          <p:spPr>
            <a:xfrm>
              <a:off x="3844080" y="2824920"/>
              <a:ext cx="2726280" cy="588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28440">
              <a:solidFill>
                <a:srgbClr val="003d3d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ffffff"/>
                  </a:solidFill>
                  <a:latin typeface="Arial"/>
                </a:rPr>
                <a:t>Lieutenant-Governo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_s220174"/>
            <p:cNvSpPr/>
            <p:nvPr/>
          </p:nvSpPr>
          <p:spPr>
            <a:xfrm>
              <a:off x="663480" y="3708360"/>
              <a:ext cx="2726280" cy="588960"/>
            </a:xfrm>
            <a:prstGeom prst="roundRect">
              <a:avLst>
                <a:gd name="adj" fmla="val 16667"/>
              </a:avLst>
            </a:prstGeom>
            <a:solidFill>
              <a:srgbClr val="008d8d"/>
            </a:solidFill>
            <a:ln w="3240">
              <a:solidFill>
                <a:srgbClr val="003d3d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ffffff"/>
                  </a:solidFill>
                  <a:latin typeface="Arial"/>
                </a:rPr>
                <a:t>One federal governmen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_s220176"/>
            <p:cNvSpPr/>
            <p:nvPr/>
          </p:nvSpPr>
          <p:spPr>
            <a:xfrm>
              <a:off x="663480" y="4591800"/>
              <a:ext cx="2726280" cy="588960"/>
            </a:xfrm>
            <a:prstGeom prst="roundRect">
              <a:avLst>
                <a:gd name="adj" fmla="val 16667"/>
              </a:avLst>
            </a:prstGeom>
            <a:solidFill>
              <a:srgbClr val="008282"/>
            </a:solidFill>
            <a:ln w="3240">
              <a:solidFill>
                <a:srgbClr val="003d3d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ffffff"/>
                  </a:solidFill>
                  <a:latin typeface="Arial"/>
                </a:rPr>
                <a:t>Commission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_s220178"/>
            <p:cNvSpPr/>
            <p:nvPr/>
          </p:nvSpPr>
          <p:spPr>
            <a:xfrm>
              <a:off x="2480760" y="5475240"/>
              <a:ext cx="2726280" cy="586800"/>
            </a:xfrm>
            <a:prstGeom prst="roundRect">
              <a:avLst>
                <a:gd name="adj" fmla="val 16667"/>
              </a:avLst>
            </a:prstGeom>
            <a:solidFill>
              <a:srgbClr val="66c2c2"/>
            </a:solidFill>
            <a:ln w="38160">
              <a:solidFill>
                <a:srgbClr val="003d3d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ffffff"/>
                  </a:solidFill>
                  <a:latin typeface="Arial"/>
                </a:rPr>
                <a:t>Legislatur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_s220180"/>
            <p:cNvSpPr/>
            <p:nvPr/>
          </p:nvSpPr>
          <p:spPr>
            <a:xfrm>
              <a:off x="3844080" y="3708360"/>
              <a:ext cx="2726280" cy="588960"/>
            </a:xfrm>
            <a:prstGeom prst="roundRect">
              <a:avLst>
                <a:gd name="adj" fmla="val 16667"/>
              </a:avLst>
            </a:prstGeom>
            <a:solidFill>
              <a:srgbClr val="008d8d"/>
            </a:solidFill>
            <a:ln w="3240">
              <a:solidFill>
                <a:srgbClr val="003d3d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ffffff"/>
                  </a:solidFill>
                  <a:latin typeface="Arial"/>
                </a:rPr>
                <a:t>Provincial Government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_s220182"/>
            <p:cNvSpPr/>
            <p:nvPr/>
          </p:nvSpPr>
          <p:spPr>
            <a:xfrm>
              <a:off x="5661360" y="4591800"/>
              <a:ext cx="2726280" cy="588960"/>
            </a:xfrm>
            <a:prstGeom prst="roundRect">
              <a:avLst>
                <a:gd name="adj" fmla="val 16667"/>
              </a:avLst>
            </a:prstGeom>
            <a:solidFill>
              <a:srgbClr val="008282"/>
            </a:solidFill>
            <a:ln w="3240">
              <a:solidFill>
                <a:srgbClr val="003d3d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ffffff"/>
                  </a:solidFill>
                  <a:latin typeface="Arial"/>
                </a:rPr>
                <a:t>Legislature or Assembly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bcbcb"/>
                </a:solidFill>
                <a:latin typeface="Times New Roman"/>
              </a:rPr>
              <a:t>Sharing Power and Responsibiliti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ederal and provincial governments have different responsibiliti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For exampl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each province looks after education and healthcare, b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the federal government looks after the army and postal service (mail) for the entire count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opy the </a:t>
            </a:r>
            <a:r>
              <a:rPr b="0" lang="en-CA" sz="32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Venn diagram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rom page 136 into your note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50" dur="2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Elec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lections are held every few years to allow the people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Choose a new government if they are not happy with the current 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Keep the current 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Elec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anada is divided into rid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riding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is a particular area of land that includes certain commun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e larger the population in an area, the more ridings it will h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Elec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Thinking of the Fu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eople of BNA began asking themselves two ques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Would each colony have more economic and political power if it took charge of its </a:t>
            </a: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own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affai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Would the colonies do best if they all worked </a:t>
            </a: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together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bcbcb"/>
                </a:solidFill>
                <a:latin typeface="Times New Roman"/>
              </a:rPr>
              <a:t>What The Maritime Colonies Thought…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ova Sco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Premier Charles Tupper, suggested the idea of a </a:t>
            </a:r>
            <a:r>
              <a:rPr b="1" lang="en-CA" sz="2400" spc="-1" strike="noStrike" u="sng">
                <a:solidFill>
                  <a:srgbClr val="ffffff"/>
                </a:solidFill>
                <a:uFillTx/>
                <a:latin typeface="Times New Roman"/>
              </a:rPr>
              <a:t>Maritime Un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ew Brunsw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Premier Leonard Tilley thought it was a good id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Prince Edward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John Gray, the premier of PEI, wasn’t sure it was a good ide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2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bcbcb"/>
                </a:solidFill>
                <a:latin typeface="Times New Roman"/>
              </a:rPr>
              <a:t>What the Province of Canada Though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e leaders of the Province of Canada were very interested in a unio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to solve problems between Canada East (French) and Canada West (English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To pay off debts from building railways and ca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bcbcb"/>
                </a:solidFill>
                <a:latin typeface="Times New Roman"/>
              </a:rPr>
              <a:t>What Newfoundland Thought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Newfoundland wasn’t asked about joining Confederation because it was assumed they would not be interested as they were too far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owever, when Newfoundland heard about the meeting they asked to send delegates, but did not end up attend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CA" sz="4000" spc="-1" strike="noStrike">
                <a:solidFill>
                  <a:srgbClr val="cbcbcb"/>
                </a:solidFill>
                <a:latin typeface="Times New Roman"/>
              </a:rPr>
              <a:t>The Charlottetown Conference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Delegates from all colonies got together in 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Charlottetow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on September 1-9th, 1864 to discuss the benefits of joining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t the end of the conference there was still much to be decided on so another conference was arranged in a month’s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703440"/>
            <a:ext cx="7772400" cy="5297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7:31:52Z</dcterms:created>
  <dc:creator>menb</dc:creator>
  <dc:description/>
  <cp:keywords/>
  <dc:language>en-US</dc:language>
  <cp:lastModifiedBy>menb</cp:lastModifiedBy>
  <dcterms:modified xsi:type="dcterms:W3CDTF">2008-05-20T14:06:34Z</dcterms:modified>
  <cp:revision>23</cp:revision>
  <dc:subject/>
  <dc:title>Chapter 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71036</vt:lpwstr>
  </property>
</Properties>
</file>